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860C-7D3C-4646-9FE8-23DB790B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CDD8-CF16-40FC-9D97-4C5E88A4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347F-645E-4415-8E92-455369B7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20B1-71BF-4674-9D6F-FF60E270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AFE5-E7DC-42DE-B666-926501C1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CBA6-085C-4B40-93FD-8DFDD0FD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0B5-171C-4F72-A1C4-E6103F95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8328-10F9-44C6-8E92-AABB644C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7766-EE79-44EF-BEC3-50E7CD2A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138-F550-4078-BC96-77DEE2BC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8EA-5F36-47FC-9557-F9536C1F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B3A-72EB-4470-94EB-E07B7893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B9EF-342F-4110-9391-A7F618E0CAE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Rad i snaga električne stru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Električna energija prenosi se od izvora do uređaja gibanjem nabo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da žarulja svijetli, kolika je prenesena energij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ko j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enesena energija je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4"/>
          <a:stretch/>
        </p:blipFill>
        <p:spPr>
          <a:xfrm>
            <a:off x="1908000" y="4292640"/>
            <a:ext cx="1162080" cy="9237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1380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5"/>
          <a:stretch/>
        </p:blipFill>
        <p:spPr>
          <a:xfrm>
            <a:off x="4572000" y="4437000"/>
            <a:ext cx="12574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6"/>
          <a:stretch/>
        </p:blipFill>
        <p:spPr>
          <a:xfrm>
            <a:off x="5003640" y="5589720"/>
            <a:ext cx="316260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Električna energija koju trošilo pretvori u druge oblike energije koristi se ili u obliku rada</a:t>
            </a:r>
            <a:r>
              <a:rPr b="1" lang="vi-V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vi-VN" sz="3200" spc="-1" strike="noStrike">
                <a:solidFill>
                  <a:srgbClr val="000000"/>
                </a:solidFill>
                <a:latin typeface="Calibri"/>
              </a:rPr>
              <a:t>W 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ili kao toplina </a:t>
            </a:r>
            <a:r>
              <a:rPr b="1" i="1" lang="vi-VN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1" i="1" lang="vi-VN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1" i="1" lang="vi-V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u električnim uređajim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dje je </a:t>
            </a:r>
            <a:r>
              <a:rPr b="1" i="1" lang="nl-NL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i="1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rijeme rada uređaj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3"/>
          <a:stretch/>
        </p:blipFill>
        <p:spPr>
          <a:xfrm>
            <a:off x="3348000" y="3284640"/>
            <a:ext cx="2043000" cy="5238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Snaga električnog uređa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naga trošila je električna energija koja se u trošilu pretvori u druge oblike energije u jednoj sekund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rijedi da 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8"/>
          <a:stretch/>
        </p:blipFill>
        <p:spPr>
          <a:xfrm>
            <a:off x="2124000" y="3789360"/>
            <a:ext cx="4743360" cy="9334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0" y="1390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9"/>
          <a:stretch/>
        </p:blipFill>
        <p:spPr>
          <a:xfrm>
            <a:off x="2987640" y="5157720"/>
            <a:ext cx="3247920" cy="9525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0" y="1324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naga trošila jednaka je umnošku napona na njegovim krajevima i struje koja njime prolazi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hr-HR" sz="3600" spc="-1" strike="noStrike">
                <a:solidFill>
                  <a:srgbClr val="000000"/>
                </a:solidFill>
                <a:latin typeface="Calibri"/>
              </a:rPr>
              <a:t>P = U · I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inica za snagu je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vat (znak W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W = V · 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ristimo i mjerne jedinice: kilovat, kW, megavat, MW i milivat, m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10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 kW = 1000 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 MW = 1000 000 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 mW = 0,001 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skažemo li pretvorenu energiju iz snage i vremena rada trošil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E = P · 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vidimo da je jedinica za energiju također i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vatsekunda, W 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 električnu energiju veća jedinica 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ilovatsat, kW h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a rabimo je pri obračunu pretvorbe električne energije iskorištene u kućanstv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 W s = 1 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 kW h = 3 600 000 J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Koliko plaćamo električnu energi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Troše li električni uređaji u našim kućanstvima električnu energij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se mjeri količina električne energije pretvorena (iskorištena) u kućanstv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lektrično brojilo mjeri pretvorenu, odnosno isporučenu električnu energiju u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ilovatsatim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liko 1 kWh ima džul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1 kW h= 1000 W · 3 600 s = 3 600 000 J = 3,6 M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3T17:52:25Z</dcterms:created>
  <dc:creator>Zdenko</dc:creator>
  <dc:description/>
  <dc:language>en-US</dc:language>
  <cp:lastModifiedBy>Zdenko</cp:lastModifiedBy>
  <dcterms:modified xsi:type="dcterms:W3CDTF">2014-07-18T09:23:59Z</dcterms:modified>
  <cp:revision>7</cp:revision>
  <dc:subject/>
  <dc:title>Rad i snaga električne struje</dc:title>
</cp:coreProperties>
</file>